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BB-BD4D-48F8-82B0-B30E6E03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7EE-BAE7-43F1-8E19-0B88C872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6FB-B7A5-4CFC-920B-6302787B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43F-3D10-420F-A3EE-AA96C5B0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2EE9-2B1B-43AC-9995-6E6D55B2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DC24-4837-44E1-A6B9-E51F130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72B3-013F-45DE-B7BC-003B1A7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25C7-6B92-44E1-92E4-51EF40B4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4CB7-75B6-45DD-BAB2-38BC900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39E3-48A0-4CEF-A4F0-17D60E4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66F9-A295-46F3-A145-3132865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B75-FB50-4A7C-813E-162C54A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1296-EFD0-4BAB-A41B-1325B0A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F61C-EE31-4A75-B7BB-0C4D5DF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A2A-4FA3-4298-8A43-53C64E48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1B6-BCEC-487C-AFA9-DFF8543F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8445-CA63-4BE5-A065-060F64D0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36D-7706-4DB2-AE8C-DAE9D7C6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A52-A173-424B-98F9-D80A029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85C-D68E-4DBA-A06B-CF61BEC8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492-F3B4-4E02-9431-8C16B5F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0BD-FE64-4D1A-93BB-1C533C1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142-24CD-4877-B82D-351A17B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38E-E00B-418B-8354-9044BA9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A5A5-FDBD-4D82-94A9-FBDA6D89FC3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5A77-3D33-44FB-B296-45B266D2BA1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ory Element: Plo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Plo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plot is what happens, or the action, in a narrative text.  A plot usually has these elements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 problem, or series of conflicts that the main character attempts to solve (rising action)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 turning point, point when change occurs that causes the characters to think or act differently (climax)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teps that lead to the solution (falling action)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 resolution, or final outcome (solution)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ot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322360" y="2833560"/>
          <a:ext cx="449928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2833560"/>
                    <a:ext cx="449928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ademic Language for Plo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lot: what happens in a story, including the problem, the events that lead to solving the problem, and the solutio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vent: important things that happe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ising action: the problem or series of conflicts that build toward the climax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max: the most exciting part of the turning point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lling Action: the steps that lead to the solution to the problem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olution/Resolution: the outcome that brings the story to a clos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tence Start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character’s main problem is ____________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 the character tries to solve (name the problem, he/she faces complications such as ______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urning point of the story is when _______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tory is resolved when _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is Teaching Plot Importan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dentifying the plot of a narrative text helps students sequence events, identify problems and solutions, recall critical information, and summariz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rite Down Events That Are Important in the Sto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se Your Interactive Journ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range your Events in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ognize the Plot Struc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tory is about _______.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______ is a character who tries to _____, but has trouble when ________. The story ends with ____________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 180 Skills Tracker: Pl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-Skills Test – Access Plo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use rSkills Tests 2 and 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5800" y="1981080"/>
            <a:ext cx="7771680" cy="4113360"/>
            <a:chOff x="685800" y="1981080"/>
            <a:chExt cx="7771680" cy="4113360"/>
          </a:xfrm>
        </p:grpSpPr>
        <p:cxnSp>
          <p:nvCxnSpPr>
            <p:cNvPr id="365" name="_s26638"/>
            <p:cNvCxnSpPr>
              <a:stCxn id="366" idx="0"/>
              <a:endCxn id="367" idx="2"/>
            </p:cNvCxnSpPr>
            <p:nvPr/>
          </p:nvCxnSpPr>
          <p:spPr>
            <a:xfrm flipV="1" rot="16200000">
              <a:off x="5519880" y="267660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8" name="_s26637"/>
            <p:cNvCxnSpPr>
              <a:stCxn id="369" idx="0"/>
              <a:endCxn id="367" idx="2"/>
            </p:cNvCxnSpPr>
            <p:nvPr/>
          </p:nvCxnSpPr>
          <p:spPr>
            <a:xfrm flipV="1">
              <a:off x="4571640" y="3625560"/>
              <a:ext cx="288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0" name="_s26636"/>
            <p:cNvCxnSpPr>
              <a:stCxn id="371" idx="0"/>
              <a:endCxn id="367" idx="2"/>
            </p:cNvCxnSpPr>
            <p:nvPr/>
          </p:nvCxnSpPr>
          <p:spPr>
            <a:xfrm flipH="1" flipV="1" rot="5400000">
              <a:off x="2800080" y="267696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7" name="_s26632"/>
            <p:cNvSpPr/>
            <p:nvPr/>
          </p:nvSpPr>
          <p:spPr>
            <a:xfrm>
              <a:off x="3405960" y="19810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Teach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Teacher’s Edition: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p. 58-61, 142-143, 146-14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Book: pp. 58-61, 142-143, 146-14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Transparency F11 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26633"/>
            <p:cNvSpPr/>
            <p:nvPr/>
          </p:nvSpPr>
          <p:spPr>
            <a:xfrm>
              <a:off x="68580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Practi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Teacher’s Edi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pp. 62-69, 150-155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rBook: 62-69, 150-15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_s26634"/>
            <p:cNvSpPr/>
            <p:nvPr/>
          </p:nvSpPr>
          <p:spPr>
            <a:xfrm>
              <a:off x="340596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Appl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Teacher’s Ed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p.70-71, Audio Book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Teaching Resour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. 1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Audio Book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Before We Were Fre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aperback Teaching Resouc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p. 24, 37, 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Paperbacks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Dracula/Romeo and Juliet (L2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Hope We Were (L3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Shadowing Stones (L4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26635"/>
            <p:cNvSpPr/>
            <p:nvPr/>
          </p:nvSpPr>
          <p:spPr>
            <a:xfrm>
              <a:off x="612612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eview /Reteach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DI Book 1: pp, 310, 31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Using Sa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Use Reports to Monitor Progres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on Plo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Skills Test: Student Ski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epor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Skills Test: Summary Ski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Repor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2:31:13Z</dcterms:created>
  <dc:creator>Barbara Vogt</dc:creator>
  <dc:description/>
  <dc:language>en-US</dc:language>
  <cp:lastModifiedBy>Barbara Vogt</cp:lastModifiedBy>
  <dcterms:modified xsi:type="dcterms:W3CDTF">2012-02-04T19:48:14Z</dcterms:modified>
  <cp:revision>3</cp:revision>
  <dc:subject/>
  <dc:title>Story Element: Plot What is Plot?</dc:title>
</cp:coreProperties>
</file>